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BA32-F12C-4E92-94E3-F45D9A961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F5F7-758E-44DA-A17B-F1B45E631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ist.gov/oles/forensics/biology_dna.cf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1BD4-F359-4CE6-A8D4-750F8DF58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AC80-7E99-499A-AE5F-4BC4F06EA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0C5A-9B27-461D-864E-2F7DB742B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8305-89C5-4C3A-9256-920DD9AE4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792D-3469-4374-95F7-5F705D34E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8B78-6B88-4D2C-BD54-2103DA210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D4CA-B28F-4D95-9063-889B0FAD9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infovisual.info/01/021_e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A360-D2F2-4764-9788-51FDE1293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EF67-D772-4DA9-BBA7-A0DDB7B58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A29D-DE1A-490A-BC59-CC356E9D2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rugline.org/medic/term/meiotic-nondisjunct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00C7-06D3-424F-92C4-7AB36DC5B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2160-FCAF-4A45-8F0F-40A23FAA3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ajp.psychiatryonline.org/Mobile/article.aspx?articleid=1754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053B-8E71-4681-97D5-A688F5661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logyjunction.com/karyotype_lab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217A-D4A3-4ACD-9FE0-518B90722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arveendulai.wikispaces.com/Gen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77A1-8EF7-435A-8842-688C8B45A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orms.zoology.wisc.edu/zooweb/Phelps/karyotyp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ECB6-1F6A-400C-9FF5-9761E71FF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of information: http://www.marchofdimes.com/baby/birthdefects_chromosomal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6028-5B35-48EF-95EC-62515CE67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orms.zoology.wisc.edu/zooweb/Phelps/karyotyp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6263-3A36-4AD9-B2E4-4DA295332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orms.zoology.wisc.edu/zooweb/Phelps/karyotyp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8279-3F3E-45AC-BB7B-782608054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of information: http://www.marchofdimes.com/baby/birthdefects_chromosomal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947B-ADC3-475C-8C09-8F4F11953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orms.zoology.wisc.edu/zooweb/Phelps/karyotyp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6D6C-D178-4E52-9E22-AA4B84A10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1AEA-9B1F-4BC7-A9E2-206912DED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orms.zoology.wisc.edu/zooweb/Phelps/karyotyp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9BBC-DD26-4023-A548-D3212C1F1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0F2D-9BFD-422E-B984-C088E9102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orms.zoology.wisc.edu/zooweb/Phelps/karyotyp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D572-BB55-4652-AF84-CCF0C9DA2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orms.zoology.wisc.edu/zooweb/Phelps/karyotyp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D2DD-160D-4003-9C56-FE4AF6FE7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geneticsandsociety.org/article.php?id=46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www.fightyourinfertility.com/wp-content/uploads/2015/09/IVF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D659-EABD-4461-A605-D5A6918FF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Toronto zoo panda cub page: http://www.torontozoo.com/GiantPandaCub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Toronto zoo panda cubs: http://storage.torontosun.com/v1/dynamic_resize/sws_path/suns-prod-images/1297763640523_ORIGINAL.jpg?quality=80&amp;size=650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6793-8F8D-48C7-8D51-D52A6ABDB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4F11-B067-41B7-8C78-848534C70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D2DB-48AC-4FEB-9C91-44DD17E12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4091-ACAE-4620-BB3F-2EBF9AF86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241F-B0A7-4B03-810D-010A34034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ADE5-CB95-4B02-A7E5-A38BE7716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39D6-AA5B-4C8C-8A40-B1364C478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8CED-A651-41B9-9A91-A69F28EC5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9471-E03F-459A-AFF7-8F64E1A3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16D4-3783-424C-9612-D930F596F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8613-A50A-42FD-8AE8-6A64754E5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4493-2CC6-431C-9909-F5E31BC6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F797-567E-447A-8610-F95CEC55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E1AE-9B78-471F-B537-5CFEA52E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0F6C-6C19-497D-97A8-B82E62D3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FCE5-08A8-495A-9280-C9EE94C4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5B6B-B0E6-489C-B559-A063921F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C0F5-105D-4171-9410-DDCF92F9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E9C1-3A16-4E41-BE61-A344F759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5FCE-6E3A-443A-B882-54FF2A3BC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torontozoo.com/GiantPandaCubs/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.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normal 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disjunction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atic cell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plo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mean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divide very quick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y have two sets of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one set of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tr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tes are hapl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tes are dipl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tes are reproductive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f the above are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tr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tes are hapl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tes are dipl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tes are reproductive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wo of the above are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tr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logous chromosom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re similar in size and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re found in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re found in somatic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separate during Anaphase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Two of the above are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tr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logous chromosom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re similar in size and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re found in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re found in somatic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separate during Anaphase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. Two of the above are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le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look at meiosis agai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021 Diagram of the stages of mitosis"/>
          <p:cNvPicPr/>
          <p:nvPr/>
        </p:nvPicPr>
        <p:blipFill>
          <a:blip r:embed="rId1"/>
          <a:stretch/>
        </p:blipFill>
        <p:spPr>
          <a:xfrm>
            <a:off x="2158920" y="609480"/>
            <a:ext cx="4826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kinds of errors can happen during meios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disj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happen dur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phase 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dur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phase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in gametes wit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o ma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o fe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lso happen in mitosis, but less harmful because not passed on to the next 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meiotic-nondisjunction-9351_3"/>
          <p:cNvPicPr/>
          <p:nvPr/>
        </p:nvPicPr>
        <p:blipFill>
          <a:blip r:embed="rId1"/>
          <a:stretch/>
        </p:blipFill>
        <p:spPr>
          <a:xfrm>
            <a:off x="685800" y="787320"/>
            <a:ext cx="7772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review some 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al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ong number of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(mutations) in the genetic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K33F1"/>
          <p:cNvPicPr/>
          <p:nvPr/>
        </p:nvPicPr>
        <p:blipFill>
          <a:blip r:embed="rId1"/>
          <a:stretch/>
        </p:blipFill>
        <p:spPr>
          <a:xfrm>
            <a:off x="4648320" y="2567160"/>
            <a:ext cx="380988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ryotype - male or fema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Karyotype2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ryotype - male or fema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normal-male"/>
          <p:cNvPicPr/>
          <p:nvPr/>
        </p:nvPicPr>
        <p:blipFill>
          <a:blip r:embed="rId1"/>
          <a:stretch/>
        </p:blipFill>
        <p:spPr>
          <a:xfrm>
            <a:off x="1784520" y="1981080"/>
            <a:ext cx="5574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wn syndrome (trisomy 2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ZWK99011k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wn 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1 in 800 bab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ying degrees of intellectual dis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 facial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have heart defects &amp; other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somy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ZWK99033k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somy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ZWK99035k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somy 13 &amp; Trisomy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in 16000 babies born with trisomy 13 and 1 in 5000 born with trisomy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e intellectual dis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hysical birth de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ffected babies die before their first birth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inefelter 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ZWK01044k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inefelter 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1 in 500-1000 bo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normal intelligence but many have learning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dults produce less than normal amounts of testosterone &amp; are infer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body cells are also known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omatic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er 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ZWK99001k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er syndrom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monosomy 2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in 2500 gir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infertile; do not undergo normal puberty changes unless treated with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ve health problems including heart and kidney de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intelligence but some have learning difficul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ple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ZWK01047k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ple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in 1000 fe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no physical birth de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normal puberty &amp; are fer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normal intelligence but many have learning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Y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ZWK01042k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Y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in 1000 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taller than a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normal sexual development &amp; are fer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have normal intelligence; some have learning, behavioral and speech/languag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sted Reproductive Technologies (AR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vitro fertilization (IV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cytoplasmic sperm in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er-assisted ha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ificial inse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Content Placeholder 2" descr="IVF.jpg"/>
          <p:cNvPicPr/>
          <p:nvPr/>
        </p:nvPicPr>
        <p:blipFill>
          <a:blip r:embed="rId1"/>
          <a:srcRect l="24029" t="0" r="24029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 &amp;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 breeding (livestock, pet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dlife conservation (like th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iant panda cub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Toronto zoo</a:t>
            </a: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Content Placeholder 2" descr="1297763640523_ORIGINAL.jpg"/>
          <p:cNvPicPr/>
          <p:nvPr/>
        </p:nvPicPr>
        <p:blipFill>
          <a:blip r:embed="rId2"/>
          <a:srcRect l="8517" t="1656" r="29807" b="-165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body cells are also known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. somatic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egg cell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omatic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egg cell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omatic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.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hum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atic ce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kin cells, bone cells, nerve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sperm cells, egg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human somatic cell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. skin cells, bone cells, nerve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sperm cells, egg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atic cell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plo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mean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divide very quick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two sets of    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one set of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2:19:47Z</dcterms:created>
  <dc:creator>rubina khan</dc:creator>
  <dc:description/>
  <dc:language>en-US</dc:language>
  <cp:lastModifiedBy>rubina khan</cp:lastModifiedBy>
  <dcterms:modified xsi:type="dcterms:W3CDTF">2015-11-20T03:58:31Z</dcterms:modified>
  <cp:revision>195</cp:revision>
  <dc:subject/>
  <dc:title>Genetic Processes</dc:title>
</cp:coreProperties>
</file>